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907200" cy="674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9907560" cy="67420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907560" cy="67420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1"/>
          </p:nvPr>
        </p:nvSpPr>
        <p:spPr>
          <a:xfrm>
            <a:off x="5271840" y="6315120"/>
            <a:ext cx="425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6BE911C4-E266-4E1D-8351-04E9D99384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953400" y="103320"/>
            <a:ext cx="2384280" cy="328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3286080" y="518760"/>
            <a:ext cx="3386160" cy="25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2360" cy="30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.Tammet    Programmeerimise algkursus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      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 loeng 2 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57A33149-CDD6-4F97-8F36-4ECC5FA45B4A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20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alg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2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5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imitive TYP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6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mitive types are nam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yte, short, int, long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, double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rresponds to two bytes (16 bits). Variables of type short have values in the range -32768 to 32767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rresponds to four bytes (32 bits). Variables of type int have values in the range -2147483648 to 2147483647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rresponds to eight bytes (64 bits). Variables of type long have values in the range -922337203685477580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t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9223372036854775807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sult: rate &gt; 0.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I said, \"Are you listening!\"\n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ariable assign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81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ate = 0.07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space = ' '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several variables in the same declaration, if you separate them by commas. For 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,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 = 'D'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ddle = 'J'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 = 'E'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, j = 17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nterest calcul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98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Interest {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he value of the investment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rincipal = 17000;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he annual interest 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rate = 0.07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terest earned in one y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interest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est = principal * rate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cipal = principal + inter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interest earned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terest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value of the investment after one year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principa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main()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class Inter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8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lock is the simplest type of statement. Its purpose is simply to group a sequence of statements into a single statement. The format of a block 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 are two examples of block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he answer is "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ans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 // This block exchanges the values of x and 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temp = x;  // declare temp and store x in 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y;         // copy value of y into 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temp;      // copy value of temp into 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1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ile LOOP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6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hile loop ha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statement can be, and usually is, a block, many while loops have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1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ile LOOP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an example of a while loop that simply prints out the numbers 1, 2, 3, 4, 5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ber = 1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 number &lt; 6 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number + 1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Done!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2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ile LOOP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80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Interest2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rincipal = 17000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rate = 0.07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years = 0;  // counts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years &lt; 5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interest = principal * rate;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cipal = principal + inter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ears = years + 1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value of the investment after 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year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years is $");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principa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while loop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main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class Interest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2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F state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5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if statement has one of the form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usual, each of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in an if statement can be a block, so that an if statement often looks lik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) {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3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F state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840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x &gt; y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emp = x;  // declare temp and store x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y;         // copy value of y into 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temp;      // copy value of temp into 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ly, here is an example of an if statement that includes a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par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years &gt; 1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value of the investment after 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year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years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{  // handle case for 1 y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value of the investment after 1 year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// end of if 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principal)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3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7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eeldetuletus: kompileerimine, käivitamine, programmi struktu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uutuj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ndmetüüb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ihtsad näited: rehkendamine, trükkim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eidi keerukamad näited: tsükl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5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ogrammi kirjutamise etapid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30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ting the program text into the computer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ing the program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ning the compiled progra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step - running the program - either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program running without a www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et- program running in a www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Servl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rogram running in a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web)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6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Java: APPLIC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80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elloWorld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A program to display the 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"Hello World!" on standard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// end of class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pileerime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elloWorld.jav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&gt;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HelloWorld.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me käsurealt käima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 call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with a definition that take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that actually displays the mess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6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mpiler, bytecod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7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5664240" cy="113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xecuting bytecod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7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6933960" cy="2071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ogram class structur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34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gram is defined by a public class that take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gram-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tional-variable-declarations-and-subrout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tional-variable-declarations-and-subrout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8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ariables &amp; primitive nam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12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 n  rate  x15   a_long_name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me_is_$  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lloWorld, helloworld, HELLOWORLD, and hElloWorLD are all distinct n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rved words includ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, public, static, if, else, while, and several dozen other wor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ssignment statement take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te = 0.07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est = rate * principa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8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33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h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ry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types built into it, and you (as a programmer) can create as many more as you wan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other than the primitive data type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the other data in a Java program will be represented as an 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So there is a fundamental split in the data a Java program deals with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------------------+----------------------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                 |              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Primitive types       |       Objects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                 |              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------------------+----------------------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T</cp:lastModifiedBy>
  <cp:revision>0</cp:revision>
  <dc:subject/>
  <dc:title> </dc:title>
</cp:coreProperties>
</file>